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F21-5EC5-43BC-A656-BFE0C611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21F-D965-45AE-BB0C-26A22EC0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01B-7957-4A9E-A5AE-7D2DA9CC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3F2-D24A-4DF4-A362-988DE92E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1437-05AE-4952-A740-639158BA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A765-8B51-4BD1-BB2B-2D22D2AC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6DB7-43D3-40BD-A9B9-BD381032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34A0-DAE1-42A9-8533-92AEAA19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0B72-787D-4BD8-A84E-6F4A87C8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EBF6-5739-41E1-9391-15F018F5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ED59-A10B-4903-BCBD-12723CFC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70A-DE2A-41A6-9030-BE802FF1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96A3-8357-4900-AE51-A74FFC9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53EF-8D9E-4242-8F0F-1E3E8FC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6FF0-A9A1-4EC5-A32B-7395B4F3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AE32-F691-485E-B765-A48F8354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3377-0652-457C-8A68-EBC1B68E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D56-3948-4436-8A26-B467B0D0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B7D-6B02-4A3A-A413-068492FB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787-2714-4DC0-A85A-6CE013A8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692-309A-40C9-81C2-20AF991C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45D-056E-4955-B5BB-9C289F56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030-8EAC-4DA1-A525-A1D76FC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AA7-A975-4D8E-BB7A-5416E013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24DB-FBA5-4128-8E74-A8CA0C3D8B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DEE9-02C6-4769-9D29-C7DA091164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43000" y="2209680"/>
            <a:ext cx="6858000" cy="8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让优秀成为一种习惯</a:t>
            </a:r>
            <a:endParaRPr b="1" lang="en-US" sz="6000" spc="1" strike="noStrike">
              <a:ln w="12600">
                <a:solidFill>
                  <a:srgbClr val="00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4197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--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一主题班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说过五步学习法吗？你不妨试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步，课前自学，对于不理解的地方做好标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步，课堂领悟，掌握基本原理的来龙去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步，课后回顾，加深课堂理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步，检验巩固，做到脱离课本，独立思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步，经常总结，能够用自己的语言表述所学的知识并加以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也是学习的基本过程，问问自己，有没有做到？千万不要小看这几个步骤，也不要怕麻烦，这是无数成功学子的经验之谈。要知道，一旦你坚持这样做了，你就是已经在转动“飞轮”，接下来的学习就会变得高效而轻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什么是学习？简单一句话，就是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养成习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到令自己满意的方法，并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坚持下去，成为习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样你就过了第二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第三关：你需要不断调整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人都有自己的梦想，在梦想中描绘着自己的将来的生活。开始时，我们会满腔热情。然而“事情永远不会百分之百地像我们预计的那样”，总会遇到种种问题，你一旦屈服、妥协，刚刚“旋转的飞轮”就会慢慢停止转动，直到有一天，你无奈地发现梦想和现实是那么的遥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，都有很多架飞机从我们头顶飞过，飞机上的乘客也坚信他们会到达自己的目的地。然而，你知道吗？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5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飞行时间里，飞机都是偏离航道飞行的，也就是说，没有人控制，飞机几乎一起飞就偏离了航道。区别就在于飞机是由飞行员负责方向的。飞行员有预定的目标，他清楚飞机会被气流吹得偏离航道，所以他监控着飞机的飞行方向，不时地进行调整，最终到达他的目的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也是这样，你所要做的不过是不断地调整自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着自己预定的方向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确，优秀是一种习惯，但，首先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必须习惯于优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关：是什么阻碍着我们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是惰性，是缺乏勇气，还是不够自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关：找到适合自己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课前自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课堂领悟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           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课后回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检验巩固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    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经常总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关：你需要不断调整自己  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92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192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192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1925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6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6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925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1925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1925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1925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155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155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1155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1155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0880" y="1143000"/>
            <a:ext cx="8458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华文行楷"/>
              </a:rPr>
              <a:t>让优秀成为高一（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华文行楷"/>
              </a:rPr>
              <a:t>11</a:t>
            </a: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华文行楷"/>
              </a:rPr>
              <a:t>）班的习惯！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一定熟悉这样的现象：骑自行车的时候，刚开始是不是很费力气？而一旦骑起来以后，就会感到轻松多了。汽车在发动的时候很慢的，而后速度会越来越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就是“飞轮效应”。为了使静止的飞轮转动起来，一开始我们必须使很大的力气，一圈一圈反复地推，每转一圈都很费力，但是每一圈的努力都不会白费，飞轮会转动得越来越快。达到某一临界点后，你无须再费更大的力气，飞轮依旧会快速转动，而且不停地转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每个人都想出色，都想让自己发展得更快些，但却往往输在起点上。正如“飞轮效应”一样，一开始我们必须付出数倍的努力，而你一旦开始，就会有一定的惯性推动着你去行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希腊哲学家亚里士多德说，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优秀是一种习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！而要想让优秀成为一种习惯，我们需要通过下面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第一关：是什么阻碍着我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飞轮一开始转动是很困难的，那么是什么阻碍着？看看下面的故事吧，或许能给我们一些启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6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6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个懒惰的年轻人，四处寻访能够克服凡事提不起劲的原因，最后终于找到一位大师。大师听完年轻人的来意后，便带着他来到一个火车头旁边。大师将一个木块卡住火车头的轮子，然后让年轻人启动火车。蒸汽火车头的马力已全部开启了，可是火车头就是不动。接着，大师拿起了木块，火车头立即动了起来，缓缓加速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师笑着对年轻人说“就这个小小的木块，让这个时速可达一百公里以上的火车头寸步难行。年轻人，你内心的火车头被什么样的小木块阻挡住了呢？除了你自己之外，没有任何人能帮你拿掉你的惰性，当然也包括我在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轻人听了大师的话，内心大受震撼。从此以后，他不断地行动，决不让自己停顿下来，不仅克服了自己的惰性，更创造了无比惊人的庞大的事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呀，又是什么挡住了我们追求卓越的道路？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是惰性，是缺乏勇气，还是不够自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你把挡住自己的小木块拿掉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是这样，那么，恭喜你，你已通过了第一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让优秀成为一种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第二关：找到适合自己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不会像转动飞轮那样简单，更需要智慧和毅力，你需要找到适合自己的一套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32:05Z</dcterms:modified>
  <cp:revision>3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  <property fmtid="{D5CDD505-2E9C-101B-9397-08002B2CF9AE}" pid="3" name="Version">
    <vt:r8>1</vt:r8>
  </property>
</Properties>
</file>